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0.gif" ContentType="image/gif"/>
  <Override PartName="/ppt/media/image19.jpeg" ContentType="image/jpeg"/>
  <Override PartName="/ppt/media/image32.gif" ContentType="image/gif"/>
  <Override PartName="/ppt/media/image18.png" ContentType="image/png"/>
  <Override PartName="/ppt/media/image6.jpeg" ContentType="image/jpeg"/>
  <Override PartName="/ppt/media/image13.gif" ContentType="image/gif"/>
  <Override PartName="/ppt/media/image27.gif" ContentType="image/gif"/>
  <Override PartName="/ppt/media/image7.png" ContentType="image/png"/>
  <Override PartName="/ppt/media/image8.jpeg" ContentType="image/jpeg"/>
  <Override PartName="/ppt/media/image5.png" ContentType="image/png"/>
  <Override PartName="/ppt/media/image12.gif" ContentType="image/gif"/>
  <Override PartName="/ppt/media/image24.jpeg" ContentType="image/jpeg"/>
  <Override PartName="/ppt/media/image30.gif" ContentType="image/gif"/>
  <Override PartName="/ppt/media/image31.gif" ContentType="image/gif"/>
  <Override PartName="/ppt/media/image9.png" ContentType="image/png"/>
  <Override PartName="/ppt/media/image34.gif" ContentType="image/gif"/>
  <Override PartName="/ppt/media/image11.gif" ContentType="image/gif"/>
  <Override PartName="/ppt/media/image35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33.gif" ContentType="image/gif"/>
  <Override PartName="/ppt/media/image1.png" ContentType="image/png"/>
  <Override PartName="/ppt/media/image10.jpeg" ContentType="image/jpeg"/>
  <Override PartName="/ppt/media/image2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F75-ECEB-41C6-A16B-80848AF2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8A9-9224-471B-873E-82A40714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92D-ECD3-40B0-A87B-D1370041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F9A-05E1-492E-A8C4-C4735CCA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411C-EAAB-429C-B70A-A6C39CD0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0F7E-C17B-4408-A23A-1EEBDFEB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1644-2AC2-45D0-AEC3-D13FFDAF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08E6-EC12-4964-A169-65DC14D8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334A-9EAA-4836-A36F-9D9FB76B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21BE-E671-43C8-B231-DA34C9B4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E6F6-096C-41BF-B4AC-148E97C0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52A-5DD6-447B-9122-A7642643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4094-27CA-4199-9D41-9DE9815F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CA04-861E-4E86-A104-B21E5ADC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23B6-EE41-4E6D-B029-CB3B5F16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DAED-AFD7-4CB8-AE81-46CDE0E1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19BC-EC22-49E1-ACD7-A99339B2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CF5D-64FB-405F-8D40-3E21B1C4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293-49F0-4ED7-91DE-72596B27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8F6-D03A-438E-855A-5C665FE8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4C6-9C83-417F-98CA-547CA1A3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0D1-C923-484E-946C-F67D3DE9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F00-D169-44A5-9F7F-CEFB74C3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DED-F656-4C40-B3BA-88CCA94E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4600-6922-4F07-B2EC-1E27FAC7DF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16C8-840C-4984-876F-A5720B2FA7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wisdoms.ru/128.html" TargetMode="External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aina.aib.ru/biography/albert-ejnshtejn.htm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6/srbn00000.9/0_1a3e8_8e77406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wisdoms.ru/28.html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ok Antiqua"/>
              </a:rPr>
              <a:t>Число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26920" y="285228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Все вещи — суть числа»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Омывай полученную обиду не в крови, а в Лете, реке забвения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ьянство есть упражнение в безумстве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оси у пьяницы, как бы он мог перестать пьянствовать. Я отвечу за него: пусть почаще вспоминает о делах, какие он делает в пьяном виде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друзей все общее, и дружба есть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равенств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439040" y="5600880"/>
            <a:ext cx="1704960" cy="1257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еликая наука жить счастливо состоит в том, чтобы жить только в настоящ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всех разумнее? Разумнее всех Врем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Хранит прошедшее, а будущему - семя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неотъемлемей всего? - Надежды свет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на есть там, где ничего уже и нет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 суди о своем величии по своей тени при заходе солнц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8373960" y="2565360"/>
            <a:ext cx="770040" cy="429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 -нечет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се числа пифагорейцы разделяли на две категории — четные и нечетны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днее выяснилось, что пифагорейские «четное — нечетное», «правое — левое» имеют глубокие и интересные следствия в кристаллах кварца, в структуре вирусов и ДНК, в знаменитых опытах Пастера , в нарушении четности элементарных частиц и других теориях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762600" y="5238720"/>
            <a:ext cx="2381400" cy="1619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… Нечет…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ейцы считали четные числа женскими, а нечетные мужскими   Брак — это пятерка, равная трем плюс два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 той же причине прямоугольный треугольник со сторонами три, четыре, пять был назван ими «фигура невесты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65840" y="4653000"/>
            <a:ext cx="2378160" cy="23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Десятк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Десятка может быть выражена суммой первых четырех чисел (1+2+3+4=10), где единица — выражение точки, двойка — линии и одномерного образа, тройка — плоскости и двумерного образа, четверка — пирамиды, то есть трехмерного образа. Ну чем не четырехмерная Вселенная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2"/>
              </a:rPr>
              <a:t>Эйнштейн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трад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Числа 1, 2, 3 и 4 составляли знаменитую </a:t>
            </a: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"тетраду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еометрически тетрада изображалась "совершенным треугольником", арифметически — "треугольным числом" 1+2+3+4 = 10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ифагорейцы, клялись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"тем, кто вложил в нашу душу тетраду, — источник и корень вечной природы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38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87280" y="27756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Идеа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умма чисел, входящих в тетраду, равна десяти, именно поэтому десятка считалась у пифагорейцев идеальным числом и символизировала Вселенную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скольку число десять — идеальное, рассуждали они, на небе должно быть ровно десять планет. Надо заметить, что тогда были известны лишь Солнце, Земля и пять планет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673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праведливость  и равенств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аведливость и равенство пифагорейцы видели в квадрате числа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имволом постоянства у них было число девять, поскольку все кратные девяти числа имеют сумму цифр опять-таки девять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9*2=18      1+8=9;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7*9=63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6+3=9;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1*9=99     9+9=18   1+8=9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5*9= 225  2+2+5=9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192320" cy="1413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979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Число восемь у пифагорейцев символизировало смерть, так как кратные восьми имеют уменьшающуюся сумму цифр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362720" y="4940280"/>
            <a:ext cx="1781280" cy="1917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" y="2565360"/>
            <a:ext cx="6840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2=16   1+6=7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3=24    2+4=6;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4=32   3+2=5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5+40  4+0=4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6=48  4+8=12  1+2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Нехорошие числа»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Кроме чисел, вызывавших восхищение и преклонение, у пифагорейцев были и так называемые нехорошие числа. Это числа, которые не обладали никакими достоинствами, а еще хуже, если такое число было окружено «хорошими» числам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Знаменитое число тринадцать — чертова дюжина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Число семнадцать, вызывавшее особое отвращение у пифагорейцев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2640" cy="1700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4076640"/>
            <a:ext cx="8964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Пифагор Самосский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(ок. 580 — ок. 500 до н. э.) — древнегреческий философ, религиозный и политический деятель, основатель пифагореизма, математик. Пифагору приписывается изучение свойств целых чисел и пропорций, доказательство теоремы Пифагора и др.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" descr="Пифагор"/>
          <p:cNvPicPr/>
          <p:nvPr/>
        </p:nvPicPr>
        <p:blipFill>
          <a:blip r:embed="rId1"/>
          <a:stretch/>
        </p:blipFill>
        <p:spPr>
          <a:xfrm>
            <a:off x="2627280" y="0"/>
            <a:ext cx="3468600" cy="3860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о понятие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первые появляется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Откровениях Иоанна Богослов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появившемся впервые вероятно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нашей эры.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нтересно, что проблема известна давно - уже в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епископ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Иреней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утверждал, ч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1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ложно, а истинное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6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Каков же смысл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“? Считается, что это зашифрованное имя гонителя христиан – императора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Нерон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 Еврейское написани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n Kai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 сумме даёт как раз 666, а вот латинско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 Cae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как раз даёт 616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палиндром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Смит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то есть сумма его цифр равна сумме цифр его простых сомножителей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666 является суммой квадратов первых семи простых чисел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ита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число 6 является наоборот счастливым и 06.06.06 там было заключено рекордное количество браков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Школа Афинская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Рафаэль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2" name="" descr="Картинка 5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25360"/>
            <a:ext cx="7740360" cy="573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4" name="" descr="Пифагор на фреске Рафаэля"/>
          <p:cNvPicPr/>
          <p:nvPr/>
        </p:nvPicPr>
        <p:blipFill>
          <a:blip r:embed="rId1"/>
          <a:stretch/>
        </p:blipFill>
        <p:spPr>
          <a:xfrm>
            <a:off x="1835280" y="1197000"/>
            <a:ext cx="4705200" cy="5661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Главным пифагорейским опознавательным знаком был символ здоровья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пентаграмма или пифагорейская звезда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Ёще о числах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87720" cy="2733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35640" y="3500280"/>
            <a:ext cx="1638360" cy="3095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1504800" cy="1685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Отрицате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нятие "отрицательное число" ввел впервые купец из Италии по фамилии Пизано в 1202 году, обозначив им свои задолженности и убытк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92720" y="3648240"/>
            <a:ext cx="3851280" cy="3209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раздник числа пи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числа Пи есть два неофициальных праздника. Первый — 14 марта, потому что этот день в Америке записывается как 3.14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торой — 22 июля, которое в европейском формате записывается 22/7, а значение такой дроби является достаточно популярным приближённым значением числа П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Ноль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русской математической литературе ноль не является натуральным числом, а в западной, наоборот, принадлежит ко множеству натуральных чисе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94520" y="3760920"/>
            <a:ext cx="2949480" cy="309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колько?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Мириада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Асанкхейя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4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плекс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торое число Скьюза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 10 10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084720" y="456408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Закон эконом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При снижении цены на 20%, количество товара покупаемого на одно и то же количество денег возрастает на 25%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59280" y="3508200"/>
            <a:ext cx="4284720" cy="3349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2843280" cy="2562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Школа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Школа была основана Пифагором  и  просуществовала до начала IV в. до н.э., хотя гонения на нее начались практически сразу после смерти Пифагора в 500 г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ием в школу проходил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несколько этапов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019920" y="4005360"/>
            <a:ext cx="3124080" cy="2705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914400"/>
            <a:ext cx="883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ташева Айшат Ханапие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У «СОШ №1 с. Учкекен» Малокарачаевский райо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рачаево-Черкесская Республ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ерв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 обычно отправлял кандидата обратно, советуя повременить и прийти вновь через три года. Этот внешне очень суровый прием был исполнен глубокого смысла - ведь любой импульс, даже самый прекрасный и чистый, должен пройти испытание временем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76720" y="4276800"/>
            <a:ext cx="3810240" cy="258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Второ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человек еще не считался учеником Школы и назывался акусматиком («слушателем»). Он слушал, впитывал, осознавал - и все это происходило в молчании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кусматикам Пифагор «предписывал пятилетнее молчание, испытывая их способности воздерживаться, так как молчание - наиболее трудный вид воздержания»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59640" y="4702320"/>
            <a:ext cx="2484360" cy="2025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Трети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ишь после долгих лет такой работы акусматик становился настоящим учеником-пифагорейц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перь он носил звание математика - «познающего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 занятиях, которые проводил сам Пифагор или его ближайшие ученики, математикам давалась целостная картина мира, раскрывалось устройство Природы и человека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учение математиков происходило в течение долгого времени, но и оно тоже было только подготовко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rcRect l="0" t="0" r="0" b="10530"/>
          <a:stretch/>
        </p:blipFill>
        <p:spPr>
          <a:xfrm>
            <a:off x="250920" y="0"/>
            <a:ext cx="2184480" cy="1484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вер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святить себя служению людям, обществу, всем, кто нуждается в помощи и защите, - естественный шаг для зрелого философ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И когда ученики-математики были готовы к этому, происходил выбор тех направлений и форм, в которых это служение будет осуществляться, и затем окончательное обучение избранной «специальности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Одни изучали   экономику,  другие изучали медицину,   и т. д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0" t="8996" r="4685" b="14967"/>
          <a:stretch/>
        </p:blipFill>
        <p:spPr>
          <a:xfrm>
            <a:off x="0" y="115920"/>
            <a:ext cx="1816200" cy="2187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я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ысшей же ступенью в Пифагорейской школе считалось обучение политиков - людей, способных управлять обществом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Задача - руководить людьми исходя из общего блага, не идя на поводу ни собственных, ни чужих интересов,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же Платон переработал и расширил пифагорейскую теорию государства - «модель идеального государства Платона»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Многие ученики Пифагора прославились как законодатели и справедливые хранители закон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Годы, когда пифагорейцы участвовали в государственных делах, были благополучными,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979640" cy="1325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Афоризмы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Не делай ничего постыдного ни в присутствии других, ни втайне. Первым твоим законом должно быть уважение к себе самому.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Для познания нравов какого ни есть народа старайся прежде изучить его язык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Если можешь быть орлом, не стремись стать первым среди галок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о время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гнев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не должно ни говорить, ни действовать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Жизнь подобна игрищам: иные приходят на них состязаться, иные — торговать, а самые счастливые — смотреть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Как ни коротки слова «да» и «нет», все же они требуют самого серьезного размышления.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7772400" y="5445000"/>
            <a:ext cx="1371600" cy="1590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33:04Z</dcterms:created>
  <dc:creator>рпатр</dc:creator>
  <dc:description/>
  <dc:language>en-US</dc:language>
  <cp:lastModifiedBy>Администратор</cp:lastModifiedBy>
  <dcterms:modified xsi:type="dcterms:W3CDTF">2010-12-11T10:58:48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